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2AFC-CA1F-4EA2-9A1B-101A8420D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F058-5296-40DB-B816-936B2B242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D1DB-B976-401A-9EB9-DE9A9454A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E1AE-8763-4138-AA21-8664DC2B6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D9C0-AEF3-4589-898E-1FD3AD608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48BF-9286-4786-AB48-556A17CD6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BA7F-DC0D-4A42-9FF6-FF6B3CB7D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D326-B4CC-403D-9E9F-32C8C3F0B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2396-2080-4523-B1B5-8DE380B7B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A401-7E3E-4E60-9023-3FC69515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9A0F-BC59-45E6-967C-BE129C8A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6604-7406-453D-9588-061B9E80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FB7A6-3CA1-41B8-8093-190AF14B5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1066680"/>
            <a:ext cx="3962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’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476760" y="3733920"/>
            <a:ext cx="243828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vel of Education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ement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ddle sch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sch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52280"/>
            <a:ext cx="3200400" cy="7621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ake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752480"/>
            <a:ext cx="5943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ing: Place and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2743200"/>
            <a:ext cx="5943600" cy="380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vori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i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ands, solo artists, or genre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ooks, magazines, newspapers, blogs, etc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i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724280" y="152280"/>
            <a:ext cx="137160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e      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em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800" y="228600"/>
            <a:ext cx="2590920" cy="327672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t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53080" y="5715000"/>
            <a:ext cx="23623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entry was created by: Your 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3T18:00:37Z</dcterms:created>
  <dc:creator>Sharon Shelhamer</dc:creator>
  <dc:description/>
  <dc:language>en-US</dc:language>
  <cp:lastModifiedBy>Sharon Shelhamer</cp:lastModifiedBy>
  <dcterms:modified xsi:type="dcterms:W3CDTF">2011-04-24T13:18:24Z</dcterms:modified>
  <cp:revision>9</cp:revision>
  <dc:subject/>
  <dc:title>Character’s name</dc:title>
</cp:coreProperties>
</file>